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90B5-F063-443C-99F4-CD24657620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4E26-932F-4D4A-A13E-AAF0C39EB5B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38B0-FE13-45B2-8C6A-FA3940297D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8A6-3015-4FF6-A242-BB40528B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C56-6E67-4F42-BBBA-B5E86AF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12D61-BD16-46CC-877F-DC75F4AD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5BFA9-7A9E-401D-94A7-819A0A0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9AD8B-7A6B-4A47-AA8A-689DD0CF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06706-0956-4CE5-A35F-AAACD88E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56C2B-BED4-4FDD-A65E-0E33ED5E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21869-B2C4-48BC-8182-5BCBE2B8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458EC-4169-4094-A8D4-D03205F1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DDFCA-FAE3-4D13-85D9-165A9422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F937C-56DA-45DC-93CF-4D13FE14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10E3E-16AB-4607-89FC-6D93F124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4C6-02CE-4B58-9D2C-95646583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24865-D9BC-4D30-8E84-2F6E0AE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0D170-AAED-45F2-B15C-DEB34FE4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65085-E2BD-4630-9438-6F860FA7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C4EFF-FB91-4416-BE77-72B4D89E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8756D-A50F-40B7-AD2B-E9E9822A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7F1E2-08C5-41CD-AF42-E6DDD134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A1CDE-8100-4898-860B-14966F6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3841B-3AB5-4BC1-9895-3F59372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8E4AA-F8E8-420D-9B22-3F4CA417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F6136-277D-4422-88BB-41E2CDF6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AA7-377A-4CBA-A979-66358D7E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53E13-FAA1-440A-BC05-DFC67E1B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E4F74-B41E-4B6B-BE59-D65D62DC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103EB-10E9-451C-BBC7-54CC2307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F435F-BA7C-4FD5-9071-68B07DD5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7908B-DB42-4D5D-867A-B22D1024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B242D-B67C-406B-A87B-DBF2F243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F782E-1E88-44CE-BC6F-CFD7BC68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77B97-A6D5-4794-9FE8-9F54E0DE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1C436-05C0-417B-961A-9ECC10F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87FC2-D329-404F-9093-1FC9889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AB63-4C33-4BFD-8B87-472559FF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7E1DE-3064-4F86-81CF-80646F3A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42DA1-C225-4232-8A85-68B20D72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DD05D-4366-4E85-853C-79C9F895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90942-2B77-459E-81C4-A699BAEB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D4CDD-07D8-410E-BA88-54ED7C38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D7F78-B6A7-4902-BA49-F6CF8786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2BD1F-B4AA-4512-929C-43DBBF44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F6D5D-1AB7-4D7A-8196-D1F67304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2E4C6-72A5-40D2-AAFF-FFCB7F46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C8689-8DA0-461F-AD0D-2AB135B8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8FF1-3A86-4692-AAF9-5D8A03F3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CB237-ABED-4FB1-AE21-C1B776E8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59B04-AA9B-4844-BBFB-110552E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DD4E7-53A2-4F16-95A3-ED3E277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D935F-479E-44F3-86F2-C549AF29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D0506-CED7-4CE2-971D-707C45CF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588B7-993B-4823-9EFB-868DBEFC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16308-A92B-47A9-AC47-9DA65316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648CF-8F25-4E31-B36E-57A0652D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5EC89-C233-4379-8AE8-6737081D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4A6A1-55ED-45DA-B496-19543F0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53FD-E107-4823-A93B-5B6C90BC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7FF78-DBAC-48B3-A254-53184855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78098-7ED1-41C4-AC64-B11ABCF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20A2E-CCC2-4797-8491-27093745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72FED-91B2-47C6-85F2-446FDB8C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DFD3A-D4B1-494A-B952-6B995481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6B291-0374-414E-97DF-6C444395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D058D-2FCE-4C11-90B3-CA3F8A55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BAD52-C449-4DEE-9040-906A205C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19F64-D076-4C5B-A6E6-455FBB33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52E5A-4F89-42ED-ADB6-287F2344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5F12-DEBF-4400-83B7-C128A95D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072E2-F14F-4389-B421-CDE165F4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701D2-60F1-4E04-BE0C-5E4E7DA5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460BA-9D7F-4CFB-8E2D-64656744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5A950-169C-4CBF-8E93-B75DE8A0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CCA35-813F-4732-804E-360BE08F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C8A73-53EC-4FF4-991C-6471FEAB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7972A-49BA-4417-87DD-D48B31DD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F0635-2AE9-4B3C-9A50-76A812C6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CD135-C1AD-4196-A447-B91D37A2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C7AE-56FC-499A-8C71-B5005FAE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7646-3BA4-4109-A628-683C6CC3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51FB-1E46-4DB9-80AE-D1E29C1D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58A-076B-4E74-AA30-46A5D105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4CA6-D69D-4CB6-BBF5-028D2034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A73C-A579-45CD-BA84-3BE36E74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2800-E6E6-4E4B-AD5B-EE808378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BF94-9CEA-40AC-9F08-E3BBBEEB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205F-9729-441A-AB3A-B7D375E7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CE8A-D3AD-4A14-958A-3D99AA05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7103-27D6-42A7-8089-829E82F5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6384-D633-4707-A59E-F1D49F82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D17D-FA08-4AC4-8672-DE549B07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EF8E-3177-402F-9A5D-030167ED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8F3-9B8B-4823-BDC7-C95D5C81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5899-790F-48D6-A12F-0F919F7B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3385-3925-46FA-8F43-AD7F939A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0D6B-5AF8-4C20-8986-C87E89C8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040E-B54B-4C71-88C0-B14B638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4C26-0B5D-4F58-B2C6-2145682D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F4FC5-6276-4D8F-8B96-D8202332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75FCA-1229-44F6-8E6C-01F02FE9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83D6-C8C4-40A6-82ED-484DA371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929F-5FAA-4C48-9D4B-9B958692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1EBFF-DB6E-4220-87B0-6C949C3B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F82-D9B3-4DB0-8F1D-769186E0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9428-F562-43EE-ADE8-67F92B84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7EE91-E6CE-4DD7-BEFA-C93976ED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C035-6D60-4DE0-A52E-4638BBBD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D5D9-86C8-4781-A4E3-D86B37F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5877-64E7-4642-B5F1-E817031B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B346D-E9FD-40DE-A54B-6B89F1E9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8121A-3596-4E77-BD94-8BFDA2C5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E573-E835-4F88-9BAA-C22F526B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A228-799C-4A8D-BCE8-C439E3A7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65385-820A-4053-9F20-B0D8BDAE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CFC-7676-4093-B119-0798C85A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5CF7C-7C24-4033-B778-EC6981B6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E4E2C-7A0C-4986-BF32-CE02E276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0D9AE-203F-4C68-88FE-98E819F7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D9BB8-0F8B-4712-B4DD-3A87AA96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4EA5B-D7D2-46BE-A2CD-57E327C9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CC12-FD31-446C-81C1-F7D00AE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1739-A3AE-4B38-8485-181B79B1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671EA-53D7-4496-835B-80D82BE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6C689-A6B8-4580-80A0-1F8E2955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B5EA-0D6A-4665-A760-82C0CA34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7FA-05C9-4CD3-B516-4B46CDAE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AB93-8DFA-433F-871D-BF00D858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87FA0-96D9-4272-8AD4-EDAA137E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6E0D7-6969-43B7-AA48-278A13EE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DDF3-FD11-43AE-BC55-03F6B609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B4F00-08B9-4E9F-9947-827A5D8A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E575A-BCAD-48D5-80A2-D610B680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389AC-A6F0-4731-88DE-29F50F81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47207-F2E2-44F2-BE7E-C3A33890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3759D-F9F5-4024-AD61-96A1E786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45674-80B2-480B-B975-1E741A03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B88-7283-487A-95E1-A28C72BC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C62A-2178-4C2E-A94E-90A40FCC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4BA84-59F1-4E92-94FB-B3911D17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38FC7-F22F-4773-8C11-FF559AAE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1C6CA-5E6E-4F49-8502-1C5A71A6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D3858-7017-4417-B4CD-79F97881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8FC64-9116-40C3-843D-2E65E562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70464-E0AD-41F9-8680-62438D66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8E69D-F352-4FD4-9BC0-CB224401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E2FF1-8504-4875-9894-F2B5A7E2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61F23-709C-439F-AA6B-1441119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958-BB68-4272-8578-7A125A47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800C-F561-4208-9C69-8C35CEAF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00FA7-C632-44BA-A263-39BBCCD5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FBA5A-3C10-429B-88D1-4B137A62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5969D-A38D-4878-8670-1384B2C6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767D2-606C-4076-AECA-FB8AEBB8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2D03E-5609-4DFF-8481-5FCA5B1F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05A2-AF96-4BF3-B54C-F199F346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CE11B-E33D-4B06-9D0D-79ECCECC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D8210-7EA4-4F11-BD1A-8F6F4AF0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35486-06EC-428A-839C-3EBC7958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335-9397-4DF6-ACB7-8A09463F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DA659-3D2A-4E32-8EEF-D1456BE3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17D37-AB53-4A72-9318-68BD696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7B86D-E4E5-4C13-BC24-88FEC02B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76287-9169-4293-BC16-0F2922D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4438C-CE75-464F-8B53-07412564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CB590-A2B8-4FA1-B089-14D8CBAA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EC32D-0448-4CBD-A8DE-B7BD6580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90AF3-A1EF-4FFD-B45C-EB9B148B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A7244-9109-433A-985B-A7E7941C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51848-2B12-4B3A-A275-ED8155FE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45B0-233A-488A-AE2D-04C8BF34BE6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DACA-B69F-42FA-BC7D-1CFC120C06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4ED-1009-4C48-8359-F529BBCB02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8092-DBF7-4F58-A473-F229EF20B0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042A-D5CA-4A37-9679-B56B3793B5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FCFD-7CA0-4687-8133-A824469299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2362320" y="752400"/>
            <a:ext cx="3962160" cy="124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3"/>
          <a:stretch/>
        </p:blipFill>
        <p:spPr>
          <a:xfrm>
            <a:off x="3809880" y="5710320"/>
            <a:ext cx="1524240" cy="61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0A14-81C1-4B61-8ADD-F58F98AA77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CFE9-6169-439E-80E9-36F74A8084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41C2-8848-4B53-BFA2-AF4C1A8334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5855-0BFB-4AE5-81B8-99E44CDCD4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CEED-1D16-4EE4-ADBB-D141175ED3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9721-73D7-4FFC-BE66-6B04A20F3D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DA94-4B19-4CC1-B396-A1F129D2E9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8E02-D733-46DC-9B9C-965CF4C703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17360" y="4800600"/>
            <a:ext cx="7592760" cy="1295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 Rounded MT Bold"/>
              </a:rPr>
              <a:t>Λευκωσία, Ιούλιος 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7593120" cy="13701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ctr" anchorCtr="1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Arial"/>
              </a:rPr>
              <a:t>«Από τον αμπελώνα στο τραπέζι μα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egnaposto data 3"/>
          <p:cNvSpPr/>
          <p:nvPr/>
        </p:nvSpPr>
        <p:spPr>
          <a:xfrm>
            <a:off x="45720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ευκωσία, Ιούλιος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C157-C225-4F7B-8F53-CE1AB1D90E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ttangolo 9"/>
          <p:cNvSpPr/>
          <p:nvPr/>
        </p:nvSpPr>
        <p:spPr>
          <a:xfrm>
            <a:off x="466560" y="26668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ww.foodanddrinkeurope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Grafik 3" descr=""/>
          <p:cNvPicPr/>
          <p:nvPr/>
        </p:nvPicPr>
        <p:blipFill>
          <a:blip r:embed="rId1"/>
          <a:stretch/>
        </p:blipFill>
        <p:spPr>
          <a:xfrm>
            <a:off x="6858000" y="1903320"/>
            <a:ext cx="1601640" cy="104004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2716200" y="1289880"/>
            <a:ext cx="4114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Learning Resource has been develope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prus Food and Nutrition Museu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in the Europeana Food and Drink Project, demonstrating the value and potential of food and drink-related content sourced through Europe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The project is funded by the European Commission under the ICT Policy Support Programme part of th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Competitiveness and Innovation Framework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735360" y="4819680"/>
            <a:ext cx="213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a Food and Drink  consortium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"/>
          <p:cNvSpPr/>
          <p:nvPr/>
        </p:nvSpPr>
        <p:spPr>
          <a:xfrm>
            <a:off x="1562040" y="5582520"/>
            <a:ext cx="61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ork is licensed under a Creative Commons Attribution 4.0 International Licen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Creative Commons License"/>
          <p:cNvPicPr/>
          <p:nvPr/>
        </p:nvPicPr>
        <p:blipFill>
          <a:blip r:embed="rId2"/>
          <a:stretch/>
        </p:blipFill>
        <p:spPr>
          <a:xfrm>
            <a:off x="7848720" y="55324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645" name="Grafik 2" descr=""/>
          <p:cNvPicPr/>
          <p:nvPr/>
        </p:nvPicPr>
        <p:blipFill>
          <a:blip r:embed="rId3"/>
          <a:stretch/>
        </p:blipFill>
        <p:spPr>
          <a:xfrm>
            <a:off x="880920" y="1011240"/>
            <a:ext cx="1157400" cy="1655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"/>
          <p:cNvPicPr/>
          <p:nvPr/>
        </p:nvPicPr>
        <p:blipFill>
          <a:blip r:embed="rId4"/>
          <a:stretch/>
        </p:blipFill>
        <p:spPr>
          <a:xfrm>
            <a:off x="4240080" y="3411360"/>
            <a:ext cx="1067040" cy="12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60040" y="4723920"/>
            <a:ext cx="7413480" cy="6858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Arial"/>
              </a:rPr>
              <a:t>Ενότητα γ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B90A-31F1-4941-AD68-1A164078D1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2971800" y="1238400"/>
            <a:ext cx="31924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2640" y="5105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www.youtube.com/watch?v=SbbSBnI-Hb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0342-4DCA-4726-BC4A-C365BCEF63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Παραγωγή Κρασιού στην Κύπρο.mp4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3132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1760" y="5181480"/>
            <a:ext cx="7413480" cy="5270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www.youtube.com/watch?v=7CIRq5QG0b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2A87-F5F1-463B-8930-63B8D079C9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Sideways - Are You Chewing Gum.mp4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1102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160" y="4648320"/>
            <a:ext cx="7848360" cy="450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haelides, D. (1992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ypriot Mosaic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Nicosia: Department of Antiquitie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37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B300-69FE-4B4D-AF63-4BF6A6955E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025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D966-7BA7-4317-8C5E-9D08DC34E0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rcRect l="82467" t="-422" r="-182" b="432"/>
          <a:stretch/>
        </p:blipFill>
        <p:spPr>
          <a:xfrm>
            <a:off x="5715000" y="914400"/>
            <a:ext cx="2057400" cy="48909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3886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762120" y="12189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Συγγραφ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Νατάσα Χαραλάμπους - Μουσείο Κυπριακών Τροφίμων και Διατροφ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haralambous.natasa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yfoodmuseum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Εποπτική/Συμβουλευτική Ομάδ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Στάλω Λαζάρου - Μουσείο Κυπριακών Τροφίμων και Διατροφή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Εύα Νεοφύτου - Υπουργείο Παιδείας και Πολιτισμ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Δέσπω Λοϊζου - Υπουργείο Παιδείας και Πολιτισμ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Κατερίνα Μάτσα - Εκπαιδευτικός/Θεατρολόγ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egnaposto data 4"/>
          <p:cNvSpPr/>
          <p:nvPr/>
        </p:nvSpPr>
        <p:spPr>
          <a:xfrm>
            <a:off x="45720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ευκωσία, Ιούλιος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egnaposto numero diapositiva 6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386A-4D52-42DD-A6BA-742605A52B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19:50:36Z</dcterms:created>
  <dc:creator>Arianna Giuliani (Museo del Cioccolato);Emmanuel Mazzucchi (DigiLab Sapienza)</dc:creator>
  <dc:description/>
  <cp:keywords>Food and Drink Europe Open Educational Resources</cp:keywords>
  <dc:language>en-US</dc:language>
  <cp:lastModifiedBy>Natasa Charalambous</cp:lastModifiedBy>
  <dcterms:modified xsi:type="dcterms:W3CDTF">2015-07-15T22:45:47Z</dcterms:modified>
  <cp:revision>49</cp:revision>
  <dc:subject>Food and Drink</dc:subject>
  <dc:title>Museo Del Cioccolato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438C5FEF74F9443A5EA2DD155643AD2</vt:lpwstr>
  </property>
  <property fmtid="{D5CDD505-2E9C-101B-9397-08002B2CF9AE}" pid="3" name="TaxCatchAll">
    <vt:lpwstr>270;#Food and drink;#1438;#Open Educational Resources;#1437;#Europe</vt:lpwstr>
  </property>
  <property fmtid="{D5CDD505-2E9C-101B-9397-08002B2CF9AE}" pid="4" name="TaxKeyword">
    <vt:lpwstr>270;#Food and drink|86b18f41-7aea-4cbd-a8f5-1f30581748ea;#1438;#Open Educational Resources|7c19c98a-eccc-4349-95a1-48f028d2aa69;#1437;#Europe|ed74af8d-fb26-4450-9f7d-b2780cc34457</vt:lpwstr>
  </property>
  <property fmtid="{D5CDD505-2E9C-101B-9397-08002B2CF9AE}" pid="5" name="TaxKeywordTaxHTField">
    <vt:lpwstr>Food and drink|86b18f41-7aea-4cbd-a8f5-1f30581748ea;Open Educational Resources|7c19c98a-eccc-4349-95a1-48f028d2aa69;Europe|ed74af8d-fb26-4450-9f7d-b2780cc34457</vt:lpwstr>
  </property>
</Properties>
</file>